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12E8-62A9-4E7F-8520-BF8D24FA5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BE68-978E-4DBB-B784-FFDD50A54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942916-3AF2-4C03-A63E-A8BBB20CF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F59A7E-E19B-4298-AB9E-F13EC0C98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FA7A29-2447-43DC-B358-81CC1A6FA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7B04F1-DC90-45F4-B06A-752E8E71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791AEA-9EA2-4FD7-98DD-82961A72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45076D-A1BA-4CC2-9808-A290FBF6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92A285-016F-43A1-85F9-3FB180F7E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45D30A-1F1A-41EF-985C-B3E2A3C68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827608-9760-4E96-B381-139D7F8A8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FE70A1-D920-4349-B947-5887EF1CF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2E24-E244-4478-8DDF-C89EEC63A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5CE2DA-79FE-402D-8659-E080E4DE1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195987-E148-416F-8B08-D9A3C78F1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46BED4-5B69-4AA2-88F1-FA306F2DF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279092-94D8-476D-AA10-D324DF45A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72D331-B3CD-4DC0-A532-4610A259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09FFDC-686B-4ACF-9956-6EA9C40B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1EA997-176B-4502-9616-61B6DF2D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9C82B0-EF75-4F40-B465-49EF813E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594DB5-6F38-4576-AD2C-4E0FC6133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D135B2-173D-4926-97E9-66DA5589E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4820-6DAF-4406-9C2E-117F1E4B5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46F1AD-5620-4CA3-A11E-6D1360ED7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0EA550-1D43-4D2D-8055-E323DAC39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C8617E-D456-41CC-AF33-30FE74E77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0158D7-0EC3-46E5-BDF5-575B519D1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806E90-61FE-4DD1-B3EC-B788B9DFF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39DDD3-DCBE-4EC0-B842-52C31D18A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48C674-C8C1-434E-A8D6-C45F790A5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02BF9B-7A40-4DB3-9B35-5641F9B71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186C4F-9960-4BE3-9BA7-C21FAB37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BD138C-2F1E-41A5-A814-2B34F7FB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FBD5C-FF63-4E5B-82A8-2F45120C7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F757C0-66BE-4E45-845D-590A58970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78F2CE-43DD-4D95-A0B2-1A3AB1D32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6DB811-EFBA-4883-8AFF-83B8F2D27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420461-BCB9-4B26-A9DD-CBF7C7E83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E202DD-90E6-4711-AEED-1873FAFF1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8C3362-558B-4CEF-8E1D-CCA44AC41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2C28D4-A9DB-48E5-A676-AA44560D8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C41046-3F0B-418D-B827-3BD76D4E3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DE747D-CC4A-4AC5-BA2F-59A88D89D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82E84F-13AA-4901-ACE1-F3B26047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C96AC-A7BF-4FBD-8D2C-C608BCEA8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880AB5-E0AF-4E86-9AA5-FDFA2EF0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688073-47A8-4818-A4BC-80BF485C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0E6CFB-7C88-44B2-A83F-D67FD0176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660B71-3934-4CDE-A094-ED4F6E259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4DF3BF-EF0F-42AA-89DE-1946877EB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11D3CD-D996-4874-8D17-1710684CA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2DA763-242F-4ED5-A371-CA47DA48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2F9610-8EDA-4FF5-898E-34504AE2A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92DDFF-04A3-4206-A9CE-829471215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36EF74-F7A3-4B68-A0A2-A51AB31B9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45A33-7277-473B-86CE-7A80732D3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5C1647-8BEC-47ED-8630-B54F2BAC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4A7FD8-AE8A-409A-8957-CF042948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1970AE-5021-4122-8C38-06288475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65D23A-D267-4732-9DD9-1ECA213A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97A540-2491-466C-AA41-3D3D8C57A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94DC7F-F06C-45A1-AC98-1231DEE12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F24FC4-B7BD-4032-95C6-ADDFBC310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98CBF5-5614-411E-BE96-E13233164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7A5B30-0BC3-4851-A34A-E6216519E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BB7019-B51F-4B77-AB30-6811B956E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E614C-7496-4A66-BB26-FEE2DFD8B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42571E-4B3B-43B2-BBBA-72E20A692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A70DCA-9A49-4914-B100-C9F803C7C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68D804-50EF-4199-B5D4-AD463456C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A14541-438B-4C66-BBDC-6BD142DA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89A450-D658-49EC-A840-D02980AF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F323A2-3E2B-446F-97EE-E1CC6EBD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846439-7B33-488E-BECE-FAC05AC95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3F4FDB-CAEA-4B36-B963-FF3F45F56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C47BEA-EDD2-462D-9E6A-7F8D6FC6E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94127D-E270-4889-8853-72A9802A9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F0FE2-1AA7-48B7-9453-3411098A9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BA90E7-28BB-49B0-8B10-3004B2929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B69308-0A20-469A-AA37-32DCEE8C8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E84A64-41FD-4940-9C5D-974E7A546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D918F0-6BD9-403B-96EF-44FB210CF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CF7F5A-3EF8-4E48-962D-3BDD59293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403063-B12A-4C5B-A5F4-DAB7C77D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0EDF47-49D8-4072-89A7-79310071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1022F1-1771-4A12-BFE0-0782AA63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B48334-A87E-4BBB-B3CB-72A521D11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4BE743-7E6E-4EBD-A6E8-E00E3B449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1B9B3-C372-4E71-A46C-9859D3D7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4E5F43-AA90-4F21-8A11-4FA932FCF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084E42-F23B-4886-B470-44859C210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EBAE8C-9AB9-40EB-B9DD-B96D8EF4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1CC186-66FD-4E74-84C4-A7B350007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178A3D-8CF6-4A5E-8E29-5117073E0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13A34D-8B68-4D7B-9EB5-60717D7B1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DAA0E3-31F8-468E-A762-7B0438569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24302B-31F6-42DA-A021-CC6FD633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1679C4-EBCA-4EDD-9867-6E48AB7F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9A5F13-362C-471E-A2FF-D8F765D3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F1EA6-0295-4650-BB63-EF475EDD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97BB2A-654E-4010-986E-8ED5FCA37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5C72B0-4291-4190-823D-49030C584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C246AE-D894-492F-9076-F2BF1CA46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06A7D7-3784-407A-A5FB-D67E92354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191C79-1113-47DA-82F8-A81C21781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DA2711-984B-44A1-B122-381D2A10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2F1C1C-E9A2-49EE-9C97-72B103343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AEA2EA-730E-45B8-B5B7-9ED3D62DB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F93ADA-CEFD-4159-A43C-7D302E963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412540-2FBF-458E-A909-F8462369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E749-F4F9-470E-BE1C-B783AE455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CBD4A-98F4-4BFD-9840-6E71175F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CF7588-1806-4356-99ED-B0E4BB4E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633A82-F4C6-4A86-8162-2E41995A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9534A6-FD84-4D1D-AD5F-121810544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549694-E516-4BC4-A07D-F8FEC43DA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B5B8E9-4528-4546-8712-7B0208C9F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238A50-302D-4D92-9AAE-212EF00D5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5F9F7D-A8C6-4084-84AF-F92A1DCC2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7E96D3-2C9D-4525-95AF-C7CFB969D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84177A-5A54-4DF6-8F19-5C9B9F7D7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75DB16-28D2-49D5-B829-05C1C30F1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E06B2-F45C-4158-8D99-46FA919D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989B47-9453-468B-9C71-56562ACD1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E6BA21-96E9-446B-943F-8FF583E2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73EBC3-54D6-4AC8-B5BE-B4AAE044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67381A-41D2-4E58-9E1D-3070369B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B6C367-91D8-4360-B4F1-4972C14F5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A03923-AF73-43E6-93A3-F739F5F67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F49125-6E5A-493C-82CC-DF2A64F1D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AFBE4E-5E49-494B-BE54-18FF7EB81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388F59-D2E8-424A-AEB9-29E059E2D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514E42-FD66-4862-B378-D5B146DCA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57D5A-410F-42CE-B5B6-22AC4DC4D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C4C8C7-8CD1-45F8-AC58-9A25C560F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2B43CE-89EB-4E3A-AA22-B8528F11E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C1FD98-650A-4927-9A51-A78EBFE32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15C497-712D-4B36-953A-43A30BBE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9EB721-C016-4DE9-B387-1958DB21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9CCD5A-CC1F-45B0-B2E8-DBE5F198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50351F-2B08-489F-809A-DDB957E0F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727E8D-90B1-40E3-8F19-4DD9EE199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2EAFC9-4141-4AF5-8B79-493F04D38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B10127-04E2-4430-BF91-02F18B696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754B0-4B1C-4935-A810-117FD6087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0152E8-A13C-45D2-A1D8-2A44F2B4C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32FF12-37AD-44BC-857D-458D4C459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0BE156-6B07-4ADF-8F93-118128EB2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CC3B2C-B359-4193-9AF2-7C778C4D6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7CCB0E-5809-481B-BAA7-76910ABE0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CE84C3-BD6B-469A-B434-20832724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E295BD-CD60-46A0-9E5E-2482E484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8D0630-DC62-4F38-BBEF-A4C3E461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105BA5-CCFD-4C86-AAB9-6EE4EAFB0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D6F76A-8BEB-403B-9E44-77C8C2A61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9B4E2-830F-43C2-81ED-157594429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186D62-76F9-49B5-B893-00FC57E49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77605A-792C-48FC-89A8-568594A7C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94D1CC-2899-4E1C-B52F-F71EC0081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7F3F1D-8570-411A-B737-522A2DC3C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ACE38D-992A-46A9-B8F1-CDDFFD58E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FC9D25-EE7E-4EC2-8C00-0D00674D4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CFC82E-92C9-4D0E-9024-D5CB37511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EEE83F-AC32-426B-9058-9D723743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3C4D0E-A2DE-40B7-B636-06D95BF7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4B76CF-04D8-42C7-BE06-D7BA817B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425F1-4966-4678-9900-A3BE91938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D10F30-EE79-4668-A0CF-1F3D0BA85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0EDC77-8382-4976-BF4C-AC6B50F4A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AAC677-0B97-409E-8878-FAACCAF8B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E0F5860-A473-443D-9811-D6D476F9F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D81A734-704C-4D6A-AADE-1A9472610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D1F65E9-FB87-4D1A-9B26-698F3D6BD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469074-5E47-4D32-BB3C-1699E12AE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7A05A3A-DF73-49ED-A0D1-F370356A9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A722894-2DAD-45E4-BD23-925D2A3D2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11C978-8F07-4D7C-9C8C-8FA8C30A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FC407-8F83-4A79-98D5-B70F83B08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E068BB-EE00-43D8-A32C-BA0FF72E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52DD9AA-CC39-40B8-AE9A-53C752C4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15D0599-9E07-4DBD-82F9-8F24E65AB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DA3288-1183-444D-9B96-568A94D03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CBC2AF2-F4D2-4A9C-9C69-80E903F5F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637496E-8919-4DB2-B1F9-F35D1A8BD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E2D1C41-A4E9-48B2-88D6-B921825D5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FCA0BB9-208B-4F18-A4CD-7A01C83C7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CB7AB58-EAD3-445E-B55F-46FF11E97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D933FB0-D2AF-4462-86EC-ADD7635D2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7574C-B941-4BF2-9DC0-1C118293E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3BB04B6-B953-4087-B097-C21794E59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2852ADE-E1FA-4F2F-A28F-1F186530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14FA5A6-B206-4F34-8868-0CF70B61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F20B8BA-A87F-4440-909F-4346FA70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95CEE9B-2ED1-41B9-9CA9-B31475D1E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1030806-EE77-4452-9F20-717583F4D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A033DD7-31D0-4300-8C9C-585F0AD98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9AA67-1513-4709-B273-9F547E9F5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3F7E4-4DD1-4F23-A6F0-A3FB393CF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349D-9A98-4543-8FFF-2C5870F71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3C27A-BD8D-4425-A19F-092C82EE6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FAA2E-9E8E-407A-9913-752B3240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9EAE3-49EB-478D-B87A-FE5BC8D8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7130A-0515-4C34-B4A9-D98CB219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CCA3F-8F89-4D87-B37D-6DDD32B1F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9A087-F29D-4806-80C9-C7CB9BB2A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2CC2D-0309-4E1E-9D66-A6AE7C1AD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E01FE-33FA-48F9-A617-07A90AD75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99C71-9692-40FB-9429-CDDE44719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DCF9B-D6B1-4D9C-9212-F32F5BF65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EB30-754C-4677-A84A-5CA569D90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DBC80-B09E-4D9A-988E-938ED05E6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6FF37-E05B-4ECC-A5EE-4CCECC213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49649-7E6C-4731-A057-CA970DC32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7C089-73B9-41E7-BFF6-D4520614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6F1DE-902F-459E-869C-924774B9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BC376-316A-464E-8063-B92BB918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031F6-DCCD-4392-AE30-B4700ECD7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D771E-CE4E-4AED-98B5-412E8B1AB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EFEDA-C1B8-4E90-8DFB-BE8801448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C5749-967A-4DCB-BF8C-8C0BAC0AA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36F0-F544-410A-B5BD-85FCF3991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706E4-2636-40CE-9064-C0FF4EBFB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5B354-1FA9-4D3F-8B21-0D78B68C6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9684B-DDF7-4251-978B-753D119FF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D30FE-A81C-403A-A913-3C198ECE1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8C219-40DE-4230-8784-84B15C77E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AAB9D-D06F-4091-A042-AC45E7829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8DA93-1623-4E9C-9BED-CA1447DD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C916E-CEB2-47DF-90E8-40702E62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645C8-4681-44E4-B527-7589A565E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27EA1-7AC5-4EFF-B62A-962D8FEAB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3A5C-A4BB-4CC7-B8E2-E09CDE745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02466-BF5E-4A79-BF0F-BBDCFECC9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935D1-79E6-49FA-91BC-CAD14B14F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777B3-6198-415F-9BED-E31A44487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9A19B-5504-461A-B392-436042E38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BF62CD-A55A-4686-A6BF-0E5ED4E1D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01A7E4-7028-4B79-975E-BF0C7F178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6BF4D1-5F89-4D67-B364-FBF9B095F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4692A-3A45-428D-B9C7-E00C0DA2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CB4B2-0739-44AF-991A-A44C7CB6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D1CB4-9BFB-49A5-BDA0-38386674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59DA-5268-401A-9160-0C817C09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4FCB6-886F-4821-A2ED-11C6140B9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015F19-EF48-4C02-946A-2F0701F64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412CD-BC54-4339-A64F-C00248180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012C4B-AB27-4565-A674-6ECFFC512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1019A-C6E1-4713-A02A-528996174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B54E1-DA54-448D-986E-B88A12FA5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2FF39-581E-4832-AAFB-73F7E14D3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8FD98-7382-44A2-8852-3940E212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2E731-D692-4A91-A01C-76E315303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17EC2F-4138-4231-BE37-690A6796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97C7-C915-4D19-A2D3-8DB9BE71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A0DF32-1EA7-47DB-AAC3-4BBC3B6C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11CE4-71B1-482F-89CC-AB314425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18DD5-5805-442A-9292-629FC6664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59DE7-AA24-4DD3-9363-C1757BF8E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60F01-C4B2-4A14-BC21-2FEDEA37F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FFFA46-B8BA-44B1-9F8E-C3F0CB6AC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3535DB-26FB-4FC1-8F85-1C5665DC2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751560-3FD2-42DA-8503-CF61C0ACC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0F4939-EA72-4C5A-A106-DB979F249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D4203C-FE61-4FF3-9140-098B3EB32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E9CD-996A-4EB6-8929-7FD545BD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AB6D05-F1FE-46B2-9D62-23F93ACE8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3CEDC0-1B78-47AA-906A-6F0AD326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77CC18-3EF2-4965-8F0C-956DD67B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4E1545-9F1E-4787-A4FE-203BF857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FD4702-1D50-443C-A701-4567CA6A1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A0C0A4-1FDC-47B3-BD99-79BC1318A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586EA6-68A9-4462-BEDF-570D766F0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FF07A8-B09B-4AD6-809D-6F167FB22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558897-B1E4-4700-84A6-B6D3911D0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613CDF-8655-48FA-8D8F-30A772519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503F7-8493-4D56-8BFA-2F44A4FCD1D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05269-6A81-443C-A762-0072EA16F4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5C863-0CC4-4010-AA68-E8D3B579E4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57718-D819-4FE7-9D79-D9E6153AEE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42A23-23FD-4F4C-A821-A29DBDBD74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5A98E-5886-48C7-B269-9FB1AC346B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F204F-28D8-4453-A087-8FE9F2A896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485C6-F7EB-4929-B443-3A0FCE37BA1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7087E-E1A2-4DE2-8ABD-4D601FA381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A672C-983F-445F-8F44-36DE82EBB3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11763-48EF-4BC6-81D6-AB330CD0E6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6ED1B-3699-4D34-B63E-FDC204B1F7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A546D-53E1-4FAF-95BB-1BDBB1F256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4850B-CDB4-4B95-8E94-2D5F96F206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E9CE8-77B7-4273-A960-894F58D3B4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F30BE-6847-4919-8514-EDABED0627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6F93F-1276-44D7-A5CC-21E699DDF8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C6483-92A6-49D2-AEA0-2EDDB1CDFE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C6F03-711A-4909-AB34-D7F3FE4BB5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85772-FA7F-4119-86C9-96A6421266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DEE4A-F3D9-4BA6-96F0-A6BD4F6EA6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4E56C-61D7-4660-AEA8-9F8ECE0CE5F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8EA56-1812-4458-A947-30E6CE72B4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1A4CD-A2B2-44A3-A485-79CAA7FBFB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1D7B8-A22E-4F2E-AE34-F8CDBB7DB8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E1FBE-1F99-45E4-857A-97B0EACAB0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62A0-B913-43B8-B82C-30C051DB01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0BF0A-8438-4CCC-B3C8-DC8129071B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E1B08-B3E8-40AB-8AE1-499D4BB58B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D538D-2E28-4733-9E93-A32EA384CA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E79BA-E3B1-4A1D-8EC9-B04099605B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4FBA9-A04A-406E-9B7D-4B6EEA9E05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4C425-6AB8-4C01-A4B7-956923CDE2C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DB996-F3D8-43E2-BF8B-57F35E911B3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A8697-5ED8-4C13-8CD3-E3F239BAB3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5E5B5-4F15-425B-A762-BD5421051C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5EE75-ABDC-4603-BCD2-B13E6A9AE5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328AD-7DD0-4127-9A67-A27247615F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19195-1A51-40B2-9AAA-ECE4FFABB3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A9FC7-C4D5-4870-83A3-D186159645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A900B-994C-40B7-8C0E-1A9FDF14D0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66AF3-9858-4227-AC6B-FE4C387779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890640" y="3005280"/>
            <a:ext cx="7362720" cy="84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图片 2" descr=""/>
          <p:cNvPicPr/>
          <p:nvPr/>
        </p:nvPicPr>
        <p:blipFill>
          <a:blip r:embed="rId1"/>
          <a:stretch/>
        </p:blipFill>
        <p:spPr>
          <a:xfrm>
            <a:off x="61920" y="1128600"/>
            <a:ext cx="9018720" cy="460080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1" descr=""/>
          <p:cNvPicPr/>
          <p:nvPr/>
        </p:nvPicPr>
        <p:blipFill>
          <a:blip r:embed="rId2"/>
          <a:stretch/>
        </p:blipFill>
        <p:spPr>
          <a:xfrm>
            <a:off x="324000" y="1512720"/>
            <a:ext cx="360360" cy="27648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" descr=""/>
          <p:cNvPicPr/>
          <p:nvPr/>
        </p:nvPicPr>
        <p:blipFill>
          <a:blip r:embed="rId3"/>
          <a:stretch/>
        </p:blipFill>
        <p:spPr>
          <a:xfrm>
            <a:off x="324000" y="2617920"/>
            <a:ext cx="360360" cy="27612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1" descr=""/>
          <p:cNvPicPr/>
          <p:nvPr/>
        </p:nvPicPr>
        <p:blipFill>
          <a:blip r:embed="rId4"/>
          <a:stretch/>
        </p:blipFill>
        <p:spPr>
          <a:xfrm>
            <a:off x="324000" y="3284640"/>
            <a:ext cx="360360" cy="27612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5"/>
          <a:stretch/>
        </p:blipFill>
        <p:spPr>
          <a:xfrm>
            <a:off x="395280" y="4365720"/>
            <a:ext cx="360360" cy="2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图片 1" descr=""/>
          <p:cNvPicPr/>
          <p:nvPr/>
        </p:nvPicPr>
        <p:blipFill>
          <a:blip r:embed="rId1"/>
          <a:stretch/>
        </p:blipFill>
        <p:spPr>
          <a:xfrm>
            <a:off x="104760" y="2371680"/>
            <a:ext cx="8934480" cy="211464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2"/>
          <a:stretch/>
        </p:blipFill>
        <p:spPr>
          <a:xfrm>
            <a:off x="324000" y="2413080"/>
            <a:ext cx="360360" cy="2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4" name="图片 1" descr=""/>
          <p:cNvPicPr/>
          <p:nvPr/>
        </p:nvPicPr>
        <p:blipFill>
          <a:blip r:embed="rId1"/>
          <a:stretch/>
        </p:blipFill>
        <p:spPr>
          <a:xfrm>
            <a:off x="284040" y="1486080"/>
            <a:ext cx="6315120" cy="3886200"/>
          </a:xfrm>
          <a:prstGeom prst="rect">
            <a:avLst/>
          </a:prstGeom>
          <a:ln w="0">
            <a:noFill/>
          </a:ln>
        </p:spPr>
      </p:pic>
      <p:pic>
        <p:nvPicPr>
          <p:cNvPr id="1115" name="图片 2" descr=""/>
          <p:cNvPicPr/>
          <p:nvPr/>
        </p:nvPicPr>
        <p:blipFill>
          <a:blip r:embed="rId2"/>
          <a:stretch/>
        </p:blipFill>
        <p:spPr>
          <a:xfrm>
            <a:off x="6912000" y="2320920"/>
            <a:ext cx="1533600" cy="292248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1" descr=""/>
          <p:cNvPicPr/>
          <p:nvPr/>
        </p:nvPicPr>
        <p:blipFill>
          <a:blip r:embed="rId3"/>
          <a:stretch/>
        </p:blipFill>
        <p:spPr>
          <a:xfrm>
            <a:off x="1835280" y="2205000"/>
            <a:ext cx="2232000" cy="27612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4"/>
          <a:stretch/>
        </p:blipFill>
        <p:spPr>
          <a:xfrm>
            <a:off x="3348000" y="2924280"/>
            <a:ext cx="2160720" cy="27612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5"/>
          <a:stretch/>
        </p:blipFill>
        <p:spPr>
          <a:xfrm>
            <a:off x="1500120" y="3611520"/>
            <a:ext cx="936720" cy="27612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6"/>
          <a:stretch/>
        </p:blipFill>
        <p:spPr>
          <a:xfrm>
            <a:off x="4643280" y="3625920"/>
            <a:ext cx="576360" cy="27612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1" descr=""/>
          <p:cNvPicPr/>
          <p:nvPr/>
        </p:nvPicPr>
        <p:blipFill>
          <a:blip r:embed="rId7"/>
          <a:stretch/>
        </p:blipFill>
        <p:spPr>
          <a:xfrm>
            <a:off x="1332000" y="4330800"/>
            <a:ext cx="1944720" cy="27612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1" descr=""/>
          <p:cNvPicPr/>
          <p:nvPr/>
        </p:nvPicPr>
        <p:blipFill>
          <a:blip r:embed="rId8"/>
          <a:stretch/>
        </p:blipFill>
        <p:spPr>
          <a:xfrm>
            <a:off x="4716360" y="4336920"/>
            <a:ext cx="576360" cy="27648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1" descr=""/>
          <p:cNvPicPr/>
          <p:nvPr/>
        </p:nvPicPr>
        <p:blipFill>
          <a:blip r:embed="rId9"/>
          <a:stretch/>
        </p:blipFill>
        <p:spPr>
          <a:xfrm>
            <a:off x="1657440" y="5041800"/>
            <a:ext cx="4105080" cy="2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3" name="图片 1" descr=""/>
          <p:cNvPicPr/>
          <p:nvPr/>
        </p:nvPicPr>
        <p:blipFill>
          <a:blip r:embed="rId1"/>
          <a:stretch/>
        </p:blipFill>
        <p:spPr>
          <a:xfrm>
            <a:off x="414360" y="1913040"/>
            <a:ext cx="4610160" cy="333360"/>
          </a:xfrm>
          <a:prstGeom prst="rect">
            <a:avLst/>
          </a:prstGeom>
          <a:ln w="0">
            <a:noFill/>
          </a:ln>
        </p:spPr>
      </p:pic>
      <p:pic>
        <p:nvPicPr>
          <p:cNvPr id="1124" name="图片 2" descr=""/>
          <p:cNvPicPr/>
          <p:nvPr/>
        </p:nvPicPr>
        <p:blipFill>
          <a:blip r:embed="rId2"/>
          <a:stretch/>
        </p:blipFill>
        <p:spPr>
          <a:xfrm>
            <a:off x="480960" y="2424240"/>
            <a:ext cx="8180280" cy="174312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1" descr=""/>
          <p:cNvPicPr/>
          <p:nvPr/>
        </p:nvPicPr>
        <p:blipFill>
          <a:blip r:embed="rId3"/>
          <a:stretch/>
        </p:blipFill>
        <p:spPr>
          <a:xfrm>
            <a:off x="6012000" y="2440080"/>
            <a:ext cx="1152360" cy="27612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1" descr=""/>
          <p:cNvPicPr/>
          <p:nvPr/>
        </p:nvPicPr>
        <p:blipFill>
          <a:blip r:embed="rId4"/>
          <a:stretch/>
        </p:blipFill>
        <p:spPr>
          <a:xfrm>
            <a:off x="2843280" y="2781360"/>
            <a:ext cx="1152360" cy="27612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1" descr=""/>
          <p:cNvPicPr/>
          <p:nvPr/>
        </p:nvPicPr>
        <p:blipFill>
          <a:blip r:embed="rId5"/>
          <a:stretch/>
        </p:blipFill>
        <p:spPr>
          <a:xfrm>
            <a:off x="4643280" y="3141720"/>
            <a:ext cx="865440" cy="27612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" descr=""/>
          <p:cNvPicPr/>
          <p:nvPr/>
        </p:nvPicPr>
        <p:blipFill>
          <a:blip r:embed="rId6"/>
          <a:stretch/>
        </p:blipFill>
        <p:spPr>
          <a:xfrm>
            <a:off x="2124000" y="3490920"/>
            <a:ext cx="865440" cy="27612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" descr=""/>
          <p:cNvPicPr/>
          <p:nvPr/>
        </p:nvPicPr>
        <p:blipFill>
          <a:blip r:embed="rId7"/>
          <a:stretch/>
        </p:blipFill>
        <p:spPr>
          <a:xfrm>
            <a:off x="2124000" y="3841920"/>
            <a:ext cx="865440" cy="2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0" name="图片 1" descr=""/>
          <p:cNvPicPr/>
          <p:nvPr/>
        </p:nvPicPr>
        <p:blipFill>
          <a:blip r:embed="rId1"/>
          <a:stretch/>
        </p:blipFill>
        <p:spPr>
          <a:xfrm>
            <a:off x="581040" y="1305000"/>
            <a:ext cx="7981920" cy="424800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1" descr=""/>
          <p:cNvPicPr/>
          <p:nvPr/>
        </p:nvPicPr>
        <p:blipFill>
          <a:blip r:embed="rId2"/>
          <a:stretch/>
        </p:blipFill>
        <p:spPr>
          <a:xfrm>
            <a:off x="1743120" y="2014560"/>
            <a:ext cx="1152360" cy="27612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1" descr=""/>
          <p:cNvPicPr/>
          <p:nvPr/>
        </p:nvPicPr>
        <p:blipFill>
          <a:blip r:embed="rId3"/>
          <a:stretch/>
        </p:blipFill>
        <p:spPr>
          <a:xfrm>
            <a:off x="1979640" y="2359080"/>
            <a:ext cx="863640" cy="27612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1" descr=""/>
          <p:cNvPicPr/>
          <p:nvPr/>
        </p:nvPicPr>
        <p:blipFill>
          <a:blip r:embed="rId4"/>
          <a:stretch/>
        </p:blipFill>
        <p:spPr>
          <a:xfrm>
            <a:off x="5119560" y="2368440"/>
            <a:ext cx="863640" cy="27648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1" descr=""/>
          <p:cNvPicPr/>
          <p:nvPr/>
        </p:nvPicPr>
        <p:blipFill>
          <a:blip r:embed="rId5"/>
          <a:stretch/>
        </p:blipFill>
        <p:spPr>
          <a:xfrm>
            <a:off x="1979640" y="3068640"/>
            <a:ext cx="863640" cy="27612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" descr=""/>
          <p:cNvPicPr/>
          <p:nvPr/>
        </p:nvPicPr>
        <p:blipFill>
          <a:blip r:embed="rId6"/>
          <a:stretch/>
        </p:blipFill>
        <p:spPr>
          <a:xfrm>
            <a:off x="1932120" y="3438360"/>
            <a:ext cx="863640" cy="27648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" descr=""/>
          <p:cNvPicPr/>
          <p:nvPr/>
        </p:nvPicPr>
        <p:blipFill>
          <a:blip r:embed="rId7"/>
          <a:stretch/>
        </p:blipFill>
        <p:spPr>
          <a:xfrm>
            <a:off x="4427640" y="3429000"/>
            <a:ext cx="863640" cy="27612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1" descr=""/>
          <p:cNvPicPr/>
          <p:nvPr/>
        </p:nvPicPr>
        <p:blipFill>
          <a:blip r:embed="rId8"/>
          <a:stretch/>
        </p:blipFill>
        <p:spPr>
          <a:xfrm>
            <a:off x="7102440" y="3429000"/>
            <a:ext cx="503280" cy="27612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1" descr=""/>
          <p:cNvPicPr/>
          <p:nvPr/>
        </p:nvPicPr>
        <p:blipFill>
          <a:blip r:embed="rId9"/>
          <a:stretch/>
        </p:blipFill>
        <p:spPr>
          <a:xfrm>
            <a:off x="2411280" y="3789360"/>
            <a:ext cx="648000" cy="27612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1" descr=""/>
          <p:cNvPicPr/>
          <p:nvPr/>
        </p:nvPicPr>
        <p:blipFill>
          <a:blip r:embed="rId10"/>
          <a:stretch/>
        </p:blipFill>
        <p:spPr>
          <a:xfrm>
            <a:off x="4572000" y="4140360"/>
            <a:ext cx="647640" cy="27612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1" descr=""/>
          <p:cNvPicPr/>
          <p:nvPr/>
        </p:nvPicPr>
        <p:blipFill>
          <a:blip r:embed="rId11"/>
          <a:stretch/>
        </p:blipFill>
        <p:spPr>
          <a:xfrm>
            <a:off x="3995640" y="4494240"/>
            <a:ext cx="863640" cy="2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14:00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